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2A910-8CB7-44A7-A271-6066038BC1E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move the slide</a:t>
            </a:r>
            <a:endParaRPr b="0" lang="en-US" sz="5200" spc="-1" strike="noStrike">
              <a:solidFill>
                <a:srgbClr val="ffffff"/>
              </a:solidFill>
              <a:latin typeface="Calisto MT"/>
            </a:endParaRPr>
          </a:p>
        </p:txBody>
      </p:sp>
      <p:sp>
        <p:nvSpPr>
          <p:cNvPr id="3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5B955-754B-459E-A9E3-37541B166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ADCF2-16D4-4C61-95D1-07B777C04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E43E8-DE2A-45A6-BAC3-82CFE6D68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DB05E-02F1-4665-A253-7754B8344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35591-9D95-469B-BF72-F9268B428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BAFC8-1BD7-428B-9200-44B5F9AB8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BAEC475-4221-49BB-910D-1608D286E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94E966-EEE0-4325-8EC2-8A4599AF7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D3F167-8530-4B08-98D0-8D40F8D73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581EB14-340E-43E6-85D0-BDA2454CE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B3085F-BCC3-47AA-B2FE-BA2308387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9618F8-332C-4C3D-87E1-94CC1D735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0C3B6B-D2AD-4492-82D2-FCF045905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DA80A-9229-4377-B230-5BB5F5C6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875624-C836-432D-A03A-2134C0C25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B80B60-4DF4-48DD-8A82-F2204CFCF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121B91-EC33-4C7D-9483-4357EF890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2360878-8A24-4F36-8CE0-870CB84DE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C961C6E-2EFE-4EE3-899E-34FFBE67F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FD494D-4B9C-49AF-BD86-5C8CF02596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F0D63-629D-470B-8AF5-369F8FB56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70450-C0B9-4393-A462-FF76618C5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5EED7-DB5F-44ED-B069-EFC12281E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ADA70-3A04-4624-9DC0-AF994E9917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3E057-A884-4859-B036-A8B5E6E5A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2DC141-F8EE-4BC1-8182-469916B53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508E0-D503-4CF8-9245-5F29F4D29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2C798-1AFD-438F-A408-6A302DDB5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D9B09-4328-4998-B5B6-339960744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61DFC-0080-4FD0-A3EA-C4229CC69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45C9A2-DB8E-41F8-AE10-1E6E57E2EB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8631D2-1A76-401E-BDC6-7D11BBED51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AAFE30-82AE-47FA-B18C-B6A9E4F61C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568F4-824E-44DE-9BAE-CFC4E6CB7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6E2D9-54C4-434B-B054-4E0782778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CA819-1512-4740-940B-7E0EC479A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EF72DE-D4BC-440B-82BA-22E5863F2B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8549A-2084-43DA-A9FF-A80B1EEBFF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D8437E-6067-4BEE-ACBC-A14DA07FA5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2D109-080F-4F2B-B4C4-5F7F3D3984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6DE8D-E1FC-4856-99B1-18EB31962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A44A5-A669-4DE4-B95D-A51748E22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700159-4ECB-4F62-9108-D3CEC821A5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BDA367-9BC2-42BF-B30C-A74FE02669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18252E-333D-4A1E-BB98-BCA6C57DBD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C828CA-062B-4580-9967-970A5B8BBD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5600C-FF1E-4BAE-A536-F5944BA35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D89C17-2886-42F1-AD34-8FCBD50EB7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8FCAE7-A2B4-4E57-B383-0234FFAA21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8A7766-5396-42CA-B178-1D3ABA6F20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2E4C24-E9EF-42C6-B335-52F85935E1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FB263-3049-47FD-B3F9-4CF6813CF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08758-7A57-412D-A52A-D635CC47C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13BD8-7904-4ABC-B685-E6655E780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17F19-7AD4-46BC-ADC3-43C2FE9F8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23F03C-C1D6-4BBD-B218-E45F3E4BD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1ECAC3-BB73-4E50-BBDB-AEBC48609E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7D1BB-B952-479F-9E3D-A3570AD1E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3B10EC-3301-4CA0-9F14-F981BD0D55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76276F-F07A-446E-80A4-B359486656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E23BCF-8D1E-4A6B-9E5F-4C54A5E6F6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525EE6-CC2F-49C7-BD2E-0A36768124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A1FB67-F613-489F-85E4-F3715285F2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54BB91-44FC-46B3-BACC-89DC8FD399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692A13-F21D-4178-BF6C-A8865C46C2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790F6-B079-48CA-A51D-C20BF315E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A9147-0CCF-4B6E-9D37-90EBD4F59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B86D37-7E25-46C8-9961-6AFC4AF07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1F30-609D-46EE-A737-18C31C529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D733EA-9513-49D6-AB4B-515F9EF602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AC8E3F-61C0-42F5-9EBA-2019FCB35C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5A46F7-2967-41A5-A592-4986048E49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F47198-6F2F-4A37-992A-29E292475A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E7AF4C-C35A-41A2-BC5A-703E5A9E63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9F0FD0-1A96-4EC9-A9AF-F794F03F34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3AD3C5-BED6-4190-831A-EEC92053B6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58067C-3D68-4DE5-9C8A-486FC1D2C5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BEEE80-7A9F-407C-BC42-05F2299112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19796-DD81-4F0F-A5FF-D70DE32891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439C-DB72-498B-BB59-C87C54B01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564694-B2FF-46DE-A6B9-802ED6338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E3DEC-8724-4DCB-AF5D-E6B7D435E8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5ECDC-CC96-4117-B585-883A99FC67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64265D-7B43-4766-8923-078225E315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8FCB86-45A9-4CFC-9D2A-77443EE97D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75F099-BDFE-4CF7-AC30-51A071866D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E7D75-FFA7-491D-AB72-991AB114C7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5F4A79-06EA-47DC-B5BA-7E4DB13F9A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68451-582A-4C12-962C-330B900BCB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930047-1FE7-43AC-B959-AE8F34C716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2AC8D-D965-4153-8F3C-C93FA6CEF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82FC94-6B23-43CF-B99C-B98EEFC93F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27A467-BF0F-41CC-8FC5-73B5DF2E8C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37E563-06F1-4A94-87D6-BA5BD9F806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FB43EF-FACF-441E-BD35-4A3E7F702F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B8C3B-C449-4FED-8D6B-F4BC8758C1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917067-872F-4E82-9E3D-079C623C2E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AB4912-7816-4712-AE9F-99865C8F501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8F7D3-81EE-4BEE-B93F-26465DB388EE}"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99525-07B2-4817-938A-29A0547E7662}"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61C07-F85E-43E7-A550-EB3423CB1FBC}"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DE4E7-F6F1-41D0-8DB4-33DF12BDF286}"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B15CA-F82C-4F2D-B450-4797E63A5C9D}"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AA911-47C3-4B23-99B0-9C017DAE5F49}"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22C39-BA7F-4DE2-9ED8-C4D46603C3D7}"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3A97E-3A52-42DC-A3A4-FB7729B5701C}"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AD238-CA5A-44AA-9EE3-0DBD20B3EC06}"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DCFF9-E086-4C6D-AC42-881F13AD9B91}"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3BDCE-2AFD-4A2A-B5C2-E3FF48CEA801}"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510B0-2A8D-4432-A0EF-40EC15E7224E}"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299BE-6D9C-4110-90C5-A7D9168D019E}"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E0A6A-BDB4-49C1-B708-BA0E42FFFAE7}"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DC327-663F-44DE-B813-36CA2FE38AFF}"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B7523-8F1D-4054-82E8-F36F6BAEAF16}"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Chapters 49-52</a:t>
            </a:r>
            <a:endParaRPr b="0" lang="en-US" sz="4600" spc="-1" strike="noStrike">
              <a:solidFill>
                <a:srgbClr val="ffffff"/>
              </a:solidFill>
              <a:latin typeface="Calisto MT"/>
            </a:endParaRPr>
          </a:p>
        </p:txBody>
      </p:sp>
      <p:sp>
        <p:nvSpPr>
          <p:cNvPr id="365"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By Caroline Ladlow and Abby Belser </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Reading Summary</a:t>
            </a:r>
            <a:endParaRPr b="0" lang="en-US" sz="5200" spc="-1" strike="noStrike">
              <a:solidFill>
                <a:srgbClr val="ffffff"/>
              </a:solidFill>
              <a:latin typeface="Calisto MT"/>
            </a:endParaRPr>
          </a:p>
        </p:txBody>
      </p:sp>
      <p:sp>
        <p:nvSpPr>
          <p:cNvPr id="367" name=""/>
          <p:cNvSpPr txBox="1"/>
          <p:nvPr/>
        </p:nvSpPr>
        <p:spPr>
          <a:xfrm>
            <a:off x="380520" y="1981080"/>
            <a:ext cx="7543800" cy="3810240"/>
          </a:xfrm>
          <a:prstGeom prst="rect">
            <a:avLst/>
          </a:prstGeom>
          <a:noFill/>
          <a:ln w="0">
            <a:noFill/>
          </a:ln>
        </p:spPr>
        <p:txBody>
          <a:bodyPr anchor="t">
            <a:normAutofit fontScale="95000"/>
          </a:bodyPr>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ip visits Miss Havisham and she apologizes and mourns for what she has done to him. During his walk, he thought he saw her, and goes back up to make sure everything is alright. He discovers Miss Havisham has caught fire, and extinguishes it to save her. When he goes back home, Herbert acts as his nurse and they discuss Provis’ story. Pip concludes that Provis is Estella’s father and then goes to discuss it with Jaggers. Jaggers points out that no one would benefit from that information being revealed. After receiving a note from Wemmick, Pip and Herbert then prepare to move Provis to get him out of England. Then, Pip gets a threatening note telling him to go to the marshes, and he leaves right away.</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New Information</a:t>
            </a:r>
            <a:endParaRPr b="0" lang="en-US" sz="5200" spc="-1" strike="noStrike">
              <a:solidFill>
                <a:srgbClr val="ffffff"/>
              </a:solidFill>
              <a:latin typeface="Calisto MT"/>
            </a:endParaRPr>
          </a:p>
        </p:txBody>
      </p:sp>
      <p:sp>
        <p:nvSpPr>
          <p:cNvPr id="369" name=""/>
          <p:cNvSpPr txBox="1"/>
          <p:nvPr/>
        </p:nvSpPr>
        <p:spPr>
          <a:xfrm>
            <a:off x="2286000" y="2285640"/>
            <a:ext cx="6197760" cy="3840120"/>
          </a:xfrm>
          <a:prstGeom prst="rect">
            <a:avLst/>
          </a:prstGeom>
          <a:noFill/>
          <a:ln w="0">
            <a:noFill/>
          </a:ln>
        </p:spPr>
        <p:txBody>
          <a:bodyPr anchor="t">
            <a:normAutofit/>
          </a:bodyPr>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Miss Havisham is capable of feeling guilty.</a:t>
            </a:r>
            <a:endParaRPr b="0" lang="en-US" sz="2000" spc="-1" strike="noStrike">
              <a:solidFill>
                <a:srgbClr val="262626"/>
              </a:solidFill>
              <a:latin typeface="Calisto MT"/>
            </a:endParaRPr>
          </a:p>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Provis is Estella’s father. </a:t>
            </a:r>
            <a:endParaRPr b="0" lang="en-US" sz="2000" spc="-1" strike="noStrike">
              <a:solidFill>
                <a:srgbClr val="262626"/>
              </a:solidFill>
              <a:latin typeface="Calisto MT"/>
            </a:endParaRPr>
          </a:p>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 </a:t>
            </a:r>
            <a:r>
              <a:rPr b="0" lang="en-US" sz="2000" spc="-1" strike="noStrike">
                <a:solidFill>
                  <a:srgbClr val="262626"/>
                </a:solidFill>
                <a:latin typeface="Palatino Linotype"/>
              </a:rPr>
              <a:t>Pip’s Adventures:</a:t>
            </a:r>
            <a:endParaRPr b="0" lang="en-US" sz="20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suffered a severe burn.</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figures out Estella’s heritage.</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makes the plans to move Provis.</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receives a threatening letter.</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erary Terms</a:t>
            </a:r>
            <a:endParaRPr b="0" lang="en-US" sz="5200" spc="-1" strike="noStrike">
              <a:solidFill>
                <a:srgbClr val="ffffff"/>
              </a:solidFill>
              <a:latin typeface="Calisto MT"/>
            </a:endParaRPr>
          </a:p>
        </p:txBody>
      </p:sp>
      <p:sp>
        <p:nvSpPr>
          <p:cNvPr id="371" name="PlaceHolder 2"/>
          <p:cNvSpPr>
            <a:spLocks noGrp="1"/>
          </p:cNvSpPr>
          <p:nvPr>
            <p:ph/>
          </p:nvPr>
        </p:nvSpPr>
        <p:spPr>
          <a:xfrm>
            <a:off x="457200" y="1981080"/>
            <a:ext cx="8026560" cy="50292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miles: The cathedral chimes… so the swell of the old organ was born to my ears like funeral music (367).</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The nooks of ruin… were almost as silent as the old monks in their graves (367).</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I still held… like a prisoner who might escape (374).</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etaphor: For I had… and I felt that the dying light was suited to my last view of it (372).</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But as she grew… I stole her heart away and put ice in its place (371).</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And now indeed… soon be driving with the winds and waves (also alliteration) (387)</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erary Terms</a:t>
            </a:r>
            <a:endParaRPr b="0" lang="en-US" sz="5200" spc="-1" strike="noStrike">
              <a:solidFill>
                <a:srgbClr val="ffffff"/>
              </a:solidFill>
              <a:latin typeface="Calisto MT"/>
            </a:endParaRPr>
          </a:p>
        </p:txBody>
      </p:sp>
      <p:sp>
        <p:nvSpPr>
          <p:cNvPr id="373"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reshadowing: The threatening note that Pip receives telling him to travel to the marshes. (389)</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magery: By the wilderness of casks…(372)</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me: Let your curiosity lead you.</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ass Discussion</a:t>
            </a:r>
            <a:endParaRPr b="0" lang="en-US" sz="5200" spc="-1" strike="noStrike">
              <a:solidFill>
                <a:srgbClr val="ffffff"/>
              </a:solidFill>
              <a:latin typeface="Calisto MT"/>
            </a:endParaRPr>
          </a:p>
        </p:txBody>
      </p:sp>
      <p:sp>
        <p:nvSpPr>
          <p:cNvPr id="375" name="PlaceHolder 2"/>
          <p:cNvSpPr>
            <a:spLocks noGrp="1"/>
          </p:cNvSpPr>
          <p:nvPr>
            <p:ph/>
          </p:nvPr>
        </p:nvSpPr>
        <p:spPr>
          <a:xfrm>
            <a:off x="1676160" y="1981080"/>
            <a:ext cx="7010280" cy="472464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y is Miss Havisham suddenly feeling remorse about what she’s done to Pip? How is this breaking her stereotyp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ven after Pip says that he forgives her, Miss Havisham continues to repent. Why do you think she carries 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y do you think Provis’s wife was jealous enough to commit murder? For what reason do you think she took the child and left?</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ass Discussion</a:t>
            </a:r>
            <a:endParaRPr b="0" lang="en-US" sz="5200" spc="-1" strike="noStrike">
              <a:solidFill>
                <a:srgbClr val="ffffff"/>
              </a:solidFill>
              <a:latin typeface="Calisto MT"/>
            </a:endParaRPr>
          </a:p>
        </p:txBody>
      </p:sp>
      <p:sp>
        <p:nvSpPr>
          <p:cNvPr id="377" name=""/>
          <p:cNvSpPr txBox="1"/>
          <p:nvPr/>
        </p:nvSpPr>
        <p:spPr>
          <a:xfrm>
            <a:off x="1523880" y="213336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o you think it was wise for Pip to talk to Jaggers about Estella’s heritage? Wh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o do you think wrote the letter telling Pip to go to the marshes? Why? Would you have listened to the not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at do you think Pip was thinking as he heard the landlord tell his story? Why do you think tha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55:11Z</dcterms:created>
  <dc:creator>MTSD MTSD</dc:creator>
  <dc:description/>
  <dc:language>en-US</dc:language>
  <cp:lastModifiedBy>Abby</cp:lastModifiedBy>
  <dcterms:modified xsi:type="dcterms:W3CDTF">2009-03-17T00:23:10Z</dcterms:modified>
  <cp:revision>32</cp:revision>
  <dc:subject/>
  <dc:title>Chapters 49-52</dc:title>
</cp:coreProperties>
</file>